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5FF-BCBF-4D61-B119-396FD826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82C-5B36-40CC-BB37-6878574B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DAC-F1A1-45F8-9659-1780164B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166-E606-4731-AF5B-70C36BAB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AF9-5DCB-4656-9D0F-E0BEF916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B73-4E6F-4993-9FF1-10F434B3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DE2-B737-49F2-8208-373A7AA2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344-1D56-470D-AA27-52091CA7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711-391F-476B-9FBF-6B0ADC1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757-0B72-420F-BCC1-87D4818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240-A524-4B67-887E-F03720E5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3EC-64C3-4A25-82A3-DC591010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51F7-78E6-499E-9F23-3316A311A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do Fraction Wor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Problems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 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ber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Test Sol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b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62720" y="4038480"/>
            <a:ext cx="335268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685800"/>
            <a:ext cx="2666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24 candies in a bag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 eats ¼ of them.  How many are lef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figure out what information you know.  You know that Ben ate ¼ of 24 ca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4280" y="4114800"/>
            <a:ext cx="4964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math, we write ¼ of 24 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  1 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411480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Ben ate 6.  However, the question is,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w many does he have LE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24 – 6 =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 has 18 candies l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ol is ½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ull.  If you add 400 litres of water, the pool is no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full.  How much water will the pool h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2590920"/>
            <a:ext cx="84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gram is most helpful in this case.  Draw a pool with the information you k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09480" y="3581280"/>
            <a:ext cx="4267080" cy="2362320"/>
            <a:chOff x="609480" y="3581280"/>
            <a:chExt cx="4267080" cy="2362320"/>
          </a:xfrm>
        </p:grpSpPr>
        <p:sp>
          <p:nvSpPr>
            <p:cNvPr id="52" name=""/>
            <p:cNvSpPr/>
            <p:nvPr/>
          </p:nvSpPr>
          <p:spPr>
            <a:xfrm>
              <a:off x="609480" y="3581280"/>
              <a:ext cx="3429000" cy="2362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09480" y="472428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09480" y="4495680"/>
              <a:ext cx="34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flipV="1">
              <a:off x="3352320" y="4724280"/>
              <a:ext cx="880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5029200"/>
              <a:ext cx="838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4/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276000" y="4190760"/>
              <a:ext cx="1273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04960" y="3849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3000" y="4419360"/>
              <a:ext cx="186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0 lit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34120" y="30481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ater level chang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⅛ with 400 litres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9800" y="4343400"/>
            <a:ext cx="372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whole pool is 8  “⅛’s”, you multiply 400 x 8 to get what the whole pool holds, which is 3200 lit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21:21:33Z</dcterms:created>
  <dc:creator>admin</dc:creator>
  <dc:description/>
  <dc:language>en-US</dc:language>
  <cp:lastModifiedBy>admin</cp:lastModifiedBy>
  <dcterms:modified xsi:type="dcterms:W3CDTF">2007-11-14T21:59:30Z</dcterms:modified>
  <cp:revision>4</cp:revision>
  <dc:subject/>
  <dc:title>How to do Fraction Word Problems</dc:title>
</cp:coreProperties>
</file>